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EE65-27B0-4B67-952C-2CE495C336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34FF-99AD-4FF1-8F79-30CFF8F076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105C-653F-4752-A6A6-3A90C86B52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AA88-6177-45F2-B560-A986C5873D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B2CE-6A1E-4403-84F4-8908400B68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8F5A-7297-4876-880C-028D91627F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FA8C-A4B0-4D68-870A-6AC3446360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F7CC-0F8F-4AA7-9F3B-6521DF5DC6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3215-6FE8-4FE1-A5A3-5910733DD2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5263-CCD0-4B87-9975-BD3E1BBBAF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D657-1F65-4E19-ADE1-B50C08E1D5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8A9C-4A6B-4CF7-98C8-E44F34A917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CC5A-E20B-4B3E-AC3C-017CAFD77F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201-4AC2-4932-90CC-3639547981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EA7D-A146-46D1-8916-BB2F4A57CC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A6E-B680-4A2F-86C2-2B9A07A44D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42E1-D4F0-4A2F-8A2E-8255136A97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Credi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11">
            <a:hlinkClick r:id="" action="ppaction://hlinkshowjump?jump=firstslide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12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13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14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15">
            <a:hlinkClick r:id="rId3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6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838080" y="2057400"/>
            <a:ext cx="777096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Rhy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Alliteration and Onomatopoe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8">
            <a:hlinkClick r:id="" action="ppaction://hlinkshowjump?jump=endshow"/>
          </p:cNvPr>
          <p:cNvSpPr/>
          <p:nvPr/>
        </p:nvSpPr>
        <p:spPr>
          <a:xfrm>
            <a:off x="6108840" y="5940360"/>
            <a:ext cx="769680" cy="917640"/>
          </a:xfrm>
          <a:custGeom>
            <a:avLst/>
            <a:gdLst>
              <a:gd name="textAreaLeft" fmla="*/ 49680 w 769680"/>
              <a:gd name="textAreaRight" fmla="*/ 720000 w 769680"/>
              <a:gd name="textAreaTop" fmla="*/ 49680 h 917640"/>
              <a:gd name="textAreaBottom" fmla="*/ 867960 h 917640"/>
            </a:gdLst>
            <a:ahLst/>
            <a:rect l="textAreaLeft" t="textAreaTop" r="textAreaRight" b="textAreaBottom"/>
            <a:pathLst>
              <a:path w="21600" h="25750">
                <a:moveTo>
                  <a:pt x="0" y="0"/>
                </a:moveTo>
                <a:lnTo>
                  <a:pt x="21600" y="0"/>
                </a:lnTo>
                <a:lnTo>
                  <a:pt x="21600" y="25750"/>
                </a:lnTo>
                <a:lnTo>
                  <a:pt x="0" y="25750"/>
                </a:lnTo>
                <a:close/>
              </a:path>
              <a:path fill="lightenLess" w="21600" h="257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50">
                <a:moveTo>
                  <a:pt x="21600" y="0"/>
                </a:moveTo>
                <a:lnTo>
                  <a:pt x="21600" y="25750"/>
                </a:lnTo>
                <a:lnTo>
                  <a:pt x="20200" y="24350"/>
                </a:lnTo>
                <a:lnTo>
                  <a:pt x="20200" y="1400"/>
                </a:lnTo>
                <a:close/>
              </a:path>
              <a:path fill="darkenLess" w="21600" h="25750">
                <a:moveTo>
                  <a:pt x="21600" y="25750"/>
                </a:moveTo>
                <a:lnTo>
                  <a:pt x="0" y="25750"/>
                </a:lnTo>
                <a:lnTo>
                  <a:pt x="1400" y="24350"/>
                </a:lnTo>
                <a:lnTo>
                  <a:pt x="20200" y="24350"/>
                </a:lnTo>
                <a:close/>
              </a:path>
              <a:path fill="lighten" w="21600" h="25750">
                <a:moveTo>
                  <a:pt x="0" y="257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9">
            <a:hlinkClick r:id="" action="ppaction://hlinkshowjump?jump=endshow"/>
          </p:cNvPr>
          <p:cNvSpPr/>
          <p:nvPr/>
        </p:nvSpPr>
        <p:spPr>
          <a:xfrm>
            <a:off x="7535880" y="5956200"/>
            <a:ext cx="770040" cy="901800"/>
          </a:xfrm>
          <a:custGeom>
            <a:avLst/>
            <a:gdLst>
              <a:gd name="textAreaLeft" fmla="*/ 49680 w 770040"/>
              <a:gd name="textAreaRight" fmla="*/ 720360 w 770040"/>
              <a:gd name="textAreaTop" fmla="*/ 49680 h 901800"/>
              <a:gd name="textAreaBottom" fmla="*/ 852120 h 901800"/>
            </a:gdLst>
            <a:ahLst/>
            <a:rect l="textAreaLeft" t="textAreaTop" r="textAreaRight" b="textAreaBottom"/>
            <a:pathLst>
              <a:path w="21600" h="25294">
                <a:moveTo>
                  <a:pt x="0" y="0"/>
                </a:moveTo>
                <a:lnTo>
                  <a:pt x="21600" y="0"/>
                </a:lnTo>
                <a:lnTo>
                  <a:pt x="21600" y="25294"/>
                </a:lnTo>
                <a:lnTo>
                  <a:pt x="0" y="25294"/>
                </a:lnTo>
                <a:close/>
              </a:path>
              <a:path fill="lightenLess" w="21600" h="252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4">
                <a:moveTo>
                  <a:pt x="21600" y="0"/>
                </a:moveTo>
                <a:lnTo>
                  <a:pt x="21600" y="25294"/>
                </a:lnTo>
                <a:lnTo>
                  <a:pt x="20200" y="23894"/>
                </a:lnTo>
                <a:lnTo>
                  <a:pt x="20200" y="1400"/>
                </a:lnTo>
                <a:close/>
              </a:path>
              <a:path fill="darkenLess" w="21600" h="25294">
                <a:moveTo>
                  <a:pt x="21600" y="25294"/>
                </a:moveTo>
                <a:lnTo>
                  <a:pt x="0" y="25294"/>
                </a:lnTo>
                <a:lnTo>
                  <a:pt x="1400" y="23894"/>
                </a:lnTo>
                <a:lnTo>
                  <a:pt x="20200" y="23894"/>
                </a:lnTo>
                <a:close/>
              </a:path>
              <a:path fill="lighten" w="21600" h="25294">
                <a:moveTo>
                  <a:pt x="0" y="252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The Sounds of Poetry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8"/>
          <p:cNvSpPr/>
          <p:nvPr/>
        </p:nvSpPr>
        <p:spPr>
          <a:xfrm>
            <a:off x="528480" y="2278080"/>
            <a:ext cx="83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word is an example of onomatopoei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Onomatopoei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he use of words that sound like what they me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3925800" y="197964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533520" y="3421080"/>
            <a:ext cx="8062920" cy="99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re the water went down, the icebergs slid with gravel, the gaps and the valleys his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Prairie” by Carl Sandbu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Alliteration and Onomatopoeia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3686040" y="4094280"/>
            <a:ext cx="82260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20" descr=""/>
          <p:cNvPicPr/>
          <p:nvPr/>
        </p:nvPicPr>
        <p:blipFill>
          <a:blip r:embed="rId2"/>
          <a:stretch/>
        </p:blipFill>
        <p:spPr>
          <a:xfrm>
            <a:off x="3494160" y="2894040"/>
            <a:ext cx="152280" cy="10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Alliteration and Onomatopoeia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3520" y="3052800"/>
            <a:ext cx="8076960" cy="214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shall come near your window, where you look out when your eyes open in the morning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there I shall slam together bird-houses and bird-baths for wing-loose wrens and hummers to live in, birds with yellow wing tips to blur and buzz soft all summer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Broken-face Gargoyles” by Carl Sandbu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33520" y="1370160"/>
            <a:ext cx="80769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this excerpt, find at least two examples of alliteration and onomatopoe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528480" y="1347840"/>
            <a:ext cx="2286000" cy="47448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28480" y="13478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580160" y="193356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5"/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33520" y="1370160"/>
            <a:ext cx="80769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this excerpt, find at least two examples of alliteration and onomatopoe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Alliteration and Onomatopoeia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528480" y="1347840"/>
            <a:ext cx="2286000" cy="47448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28480" y="13478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33520" y="2390760"/>
            <a:ext cx="1819080" cy="429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Allite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933640" y="2394000"/>
            <a:ext cx="2270160" cy="4291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Onomatopoe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533520" y="3057480"/>
            <a:ext cx="8076960" cy="224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shall come near your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dow,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w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re you look out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w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n your eyes open in the morning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there I shall slam together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rd-houses and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rd-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hs for wing-loose wrens and hummers to live in,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rds with yellow wing tips to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ur and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uzz soft all summer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Broken-face Gargoyles” by Carl Sandbu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4594320" y="4838760"/>
            <a:ext cx="63972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2813040" y="4162320"/>
            <a:ext cx="63972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20" descr=""/>
          <p:cNvPicPr/>
          <p:nvPr/>
        </p:nvPicPr>
        <p:blipFill>
          <a:blip r:embed="rId2"/>
          <a:stretch/>
        </p:blipFill>
        <p:spPr>
          <a:xfrm>
            <a:off x="7813800" y="5526000"/>
            <a:ext cx="796680" cy="420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2390760" y="268776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1"/>
          <p:cNvSpPr/>
          <p:nvPr/>
        </p:nvSpPr>
        <p:spPr>
          <a:xfrm>
            <a:off x="5780160" y="6022800"/>
            <a:ext cx="2520720" cy="835200"/>
          </a:xfrm>
          <a:custGeom>
            <a:avLst/>
            <a:gdLst>
              <a:gd name="textAreaLeft" fmla="*/ 54000 w 2520720"/>
              <a:gd name="textAreaRight" fmla="*/ 2466720 w 25207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65172" h="21600">
                <a:moveTo>
                  <a:pt x="0" y="0"/>
                </a:moveTo>
                <a:lnTo>
                  <a:pt x="65172" y="0"/>
                </a:lnTo>
                <a:lnTo>
                  <a:pt x="65172" y="21600"/>
                </a:lnTo>
                <a:lnTo>
                  <a:pt x="0" y="21600"/>
                </a:lnTo>
                <a:close/>
              </a:path>
              <a:path fill="lightenLess" w="65172" h="21600">
                <a:moveTo>
                  <a:pt x="0" y="0"/>
                </a:moveTo>
                <a:lnTo>
                  <a:pt x="65172" y="0"/>
                </a:lnTo>
                <a:lnTo>
                  <a:pt x="63772" y="1400"/>
                </a:lnTo>
                <a:lnTo>
                  <a:pt x="1400" y="1400"/>
                </a:lnTo>
                <a:close/>
              </a:path>
              <a:path fill="darken" w="65172" h="21600">
                <a:moveTo>
                  <a:pt x="65172" y="0"/>
                </a:moveTo>
                <a:lnTo>
                  <a:pt x="65172" y="21600"/>
                </a:lnTo>
                <a:lnTo>
                  <a:pt x="63772" y="20200"/>
                </a:lnTo>
                <a:lnTo>
                  <a:pt x="63772" y="1400"/>
                </a:lnTo>
                <a:close/>
              </a:path>
              <a:path fill="darkenLess" w="65172" h="21600">
                <a:moveTo>
                  <a:pt x="65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72" y="20200"/>
                </a:lnTo>
                <a:close/>
              </a:path>
              <a:path fill="lighten" w="65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533520" y="1370160"/>
            <a:ext cx="80769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s in ancient days, when poetry was not written but only spoken or sung, poetry today is addressed to the ear. You can’t really say that you know a poem until you’ve heard it read alo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oose one of the poems you’ve read in this chapter (or any favorite poem), an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d it alou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yourself and then to a partner or a small grou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n, write a paragraph or two discussing the poem’s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hythm, rhyme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othe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ound eff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9" descr=""/>
          <p:cNvPicPr/>
          <p:nvPr/>
        </p:nvPicPr>
        <p:blipFill>
          <a:blip r:embed="rId1"/>
          <a:stretch/>
        </p:blipFill>
        <p:spPr>
          <a:xfrm>
            <a:off x="533520" y="144468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24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8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780160" y="6022800"/>
            <a:ext cx="1798560" cy="835200"/>
          </a:xfrm>
          <a:custGeom>
            <a:avLst/>
            <a:gdLst>
              <a:gd name="textAreaLeft" fmla="*/ 54000 w 1798560"/>
              <a:gd name="textAreaRight" fmla="*/ 1744560 w 179856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46504" h="21600">
                <a:moveTo>
                  <a:pt x="0" y="0"/>
                </a:moveTo>
                <a:lnTo>
                  <a:pt x="46504" y="0"/>
                </a:lnTo>
                <a:lnTo>
                  <a:pt x="46504" y="21600"/>
                </a:lnTo>
                <a:lnTo>
                  <a:pt x="0" y="21600"/>
                </a:lnTo>
                <a:close/>
              </a:path>
              <a:path fill="lightenLess" w="46504" h="21600">
                <a:moveTo>
                  <a:pt x="0" y="0"/>
                </a:moveTo>
                <a:lnTo>
                  <a:pt x="46504" y="0"/>
                </a:lnTo>
                <a:lnTo>
                  <a:pt x="45104" y="1400"/>
                </a:lnTo>
                <a:lnTo>
                  <a:pt x="1400" y="1400"/>
                </a:lnTo>
                <a:close/>
              </a:path>
              <a:path fill="darken" w="46504" h="21600">
                <a:moveTo>
                  <a:pt x="46504" y="0"/>
                </a:moveTo>
                <a:lnTo>
                  <a:pt x="46504" y="21600"/>
                </a:lnTo>
                <a:lnTo>
                  <a:pt x="45104" y="20200"/>
                </a:lnTo>
                <a:lnTo>
                  <a:pt x="45104" y="1400"/>
                </a:lnTo>
                <a:close/>
              </a:path>
              <a:path fill="darkenLess" w="46504" h="21600">
                <a:moveTo>
                  <a:pt x="46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04" y="20200"/>
                </a:lnTo>
                <a:close/>
              </a:path>
              <a:path fill="lighten" w="46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pproximate rhym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are also called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half rhymes, slant rhym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, 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imperfect rhym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5780160" y="6022800"/>
            <a:ext cx="2520720" cy="835200"/>
          </a:xfrm>
          <a:custGeom>
            <a:avLst/>
            <a:gdLst>
              <a:gd name="textAreaLeft" fmla="*/ 54000 w 2520720"/>
              <a:gd name="textAreaRight" fmla="*/ 2466720 w 25207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65172" h="21600">
                <a:moveTo>
                  <a:pt x="0" y="0"/>
                </a:moveTo>
                <a:lnTo>
                  <a:pt x="65172" y="0"/>
                </a:lnTo>
                <a:lnTo>
                  <a:pt x="65172" y="21600"/>
                </a:lnTo>
                <a:lnTo>
                  <a:pt x="0" y="21600"/>
                </a:lnTo>
                <a:close/>
              </a:path>
              <a:path fill="lightenLess" w="65172" h="21600">
                <a:moveTo>
                  <a:pt x="0" y="0"/>
                </a:moveTo>
                <a:lnTo>
                  <a:pt x="65172" y="0"/>
                </a:lnTo>
                <a:lnTo>
                  <a:pt x="63772" y="1400"/>
                </a:lnTo>
                <a:lnTo>
                  <a:pt x="1400" y="1400"/>
                </a:lnTo>
                <a:close/>
              </a:path>
              <a:path fill="darken" w="65172" h="21600">
                <a:moveTo>
                  <a:pt x="65172" y="0"/>
                </a:moveTo>
                <a:lnTo>
                  <a:pt x="65172" y="21600"/>
                </a:lnTo>
                <a:lnTo>
                  <a:pt x="63772" y="20200"/>
                </a:lnTo>
                <a:lnTo>
                  <a:pt x="63772" y="1400"/>
                </a:lnTo>
                <a:close/>
              </a:path>
              <a:path fill="darkenLess" w="65172" h="21600">
                <a:moveTo>
                  <a:pt x="65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72" y="20200"/>
                </a:lnTo>
                <a:close/>
              </a:path>
              <a:path fill="lighten" w="65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17" descr=""/>
          <p:cNvPicPr/>
          <p:nvPr/>
        </p:nvPicPr>
        <p:blipFill>
          <a:blip r:embed="rId2"/>
          <a:stretch/>
        </p:blipFill>
        <p:spPr>
          <a:xfrm>
            <a:off x="7813800" y="5526000"/>
            <a:ext cx="796680" cy="4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528480" y="1370160"/>
            <a:ext cx="808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More About Allit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trictly speaking, alliteration occurs at the beginnings of words or on accented syllables. However, it would not be wrong to identify the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 l'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 in the word "yellow" as examples of alliter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More Sound Effect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5780160" y="6022800"/>
            <a:ext cx="2520720" cy="835200"/>
          </a:xfrm>
          <a:custGeom>
            <a:avLst/>
            <a:gdLst>
              <a:gd name="textAreaLeft" fmla="*/ 54000 w 2520720"/>
              <a:gd name="textAreaRight" fmla="*/ 2466720 w 25207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65172" h="21600">
                <a:moveTo>
                  <a:pt x="0" y="0"/>
                </a:moveTo>
                <a:lnTo>
                  <a:pt x="65172" y="0"/>
                </a:lnTo>
                <a:lnTo>
                  <a:pt x="65172" y="21600"/>
                </a:lnTo>
                <a:lnTo>
                  <a:pt x="0" y="21600"/>
                </a:lnTo>
                <a:close/>
              </a:path>
              <a:path fill="lightenLess" w="65172" h="21600">
                <a:moveTo>
                  <a:pt x="0" y="0"/>
                </a:moveTo>
                <a:lnTo>
                  <a:pt x="65172" y="0"/>
                </a:lnTo>
                <a:lnTo>
                  <a:pt x="63772" y="1400"/>
                </a:lnTo>
                <a:lnTo>
                  <a:pt x="1400" y="1400"/>
                </a:lnTo>
                <a:close/>
              </a:path>
              <a:path fill="darken" w="65172" h="21600">
                <a:moveTo>
                  <a:pt x="65172" y="0"/>
                </a:moveTo>
                <a:lnTo>
                  <a:pt x="65172" y="21600"/>
                </a:lnTo>
                <a:lnTo>
                  <a:pt x="63772" y="20200"/>
                </a:lnTo>
                <a:lnTo>
                  <a:pt x="63772" y="1400"/>
                </a:lnTo>
                <a:close/>
              </a:path>
              <a:path fill="darkenLess" w="65172" h="21600">
                <a:moveTo>
                  <a:pt x="65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72" y="20200"/>
                </a:lnTo>
                <a:close/>
              </a:path>
              <a:path fill="lighten" w="65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2"/>
          <a:stretch/>
        </p:blipFill>
        <p:spPr>
          <a:xfrm>
            <a:off x="7813800" y="552600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533520" y="3614760"/>
            <a:ext cx="8076960" cy="18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l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g,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l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g ye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ll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w on the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l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w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hubbub as of feet;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t audible, as ours to us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ut dapperer, more swe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 long, long yellow on the lawn” by Emily Dickins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528480" y="13701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hym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he repetition of the end vowel and consonant sounds in a wo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7532640" y="199080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8"/>
          <p:cNvSpPr/>
          <p:nvPr/>
        </p:nvSpPr>
        <p:spPr>
          <a:xfrm>
            <a:off x="533520" y="3030480"/>
            <a:ext cx="8076960" cy="1684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slumber did my spirit seal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had no human fear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he seemed a thing that could not fee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ouch of earthly ye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 Slumber Did My Spirit Seal” by William Wordswor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grpSp>
        <p:nvGrpSpPr>
          <p:cNvPr id="58" name="Group 39"/>
          <p:cNvGrpSpPr/>
          <p:nvPr/>
        </p:nvGrpSpPr>
        <p:grpSpPr>
          <a:xfrm>
            <a:off x="3664080" y="3373560"/>
            <a:ext cx="1947600" cy="609480"/>
            <a:chOff x="3664080" y="3373560"/>
            <a:chExt cx="1947600" cy="609480"/>
          </a:xfrm>
        </p:grpSpPr>
        <p:sp>
          <p:nvSpPr>
            <p:cNvPr id="59" name="Line 19"/>
            <p:cNvSpPr/>
            <p:nvPr/>
          </p:nvSpPr>
          <p:spPr>
            <a:xfrm>
              <a:off x="3664080" y="3373560"/>
              <a:ext cx="5475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5108400" y="3983040"/>
              <a:ext cx="5032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" name="Group 40"/>
          <p:cNvGrpSpPr/>
          <p:nvPr/>
        </p:nvGrpSpPr>
        <p:grpSpPr>
          <a:xfrm>
            <a:off x="2751120" y="3678120"/>
            <a:ext cx="1235160" cy="646200"/>
            <a:chOff x="2751120" y="3678120"/>
            <a:chExt cx="1235160" cy="646200"/>
          </a:xfrm>
        </p:grpSpPr>
        <p:sp>
          <p:nvSpPr>
            <p:cNvPr id="62" name="Line 21"/>
            <p:cNvSpPr/>
            <p:nvPr/>
          </p:nvSpPr>
          <p:spPr>
            <a:xfrm>
              <a:off x="2751120" y="3678120"/>
              <a:ext cx="639720" cy="0"/>
            </a:xfrm>
            <a:prstGeom prst="line">
              <a:avLst/>
            </a:prstGeom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3273480" y="4324320"/>
              <a:ext cx="712800" cy="0"/>
            </a:xfrm>
            <a:prstGeom prst="line">
              <a:avLst/>
            </a:prstGeom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4" name="Picture 38" descr=""/>
          <p:cNvPicPr/>
          <p:nvPr/>
        </p:nvPicPr>
        <p:blipFill>
          <a:blip r:embed="rId2"/>
          <a:stretch/>
        </p:blipFill>
        <p:spPr>
          <a:xfrm>
            <a:off x="7737480" y="25225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7"/>
          <p:cNvSpPr/>
          <p:nvPr/>
        </p:nvSpPr>
        <p:spPr>
          <a:xfrm>
            <a:off x="528480" y="2278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words rhy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sounds of rhy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340240" y="163368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528480" y="1922400"/>
            <a:ext cx="40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elp you hear the end of the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528480" y="2836800"/>
            <a:ext cx="40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give the poem a musical feel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8480" y="375444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ke the poem easier to reme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14" descr=""/>
          <p:cNvPicPr/>
          <p:nvPr/>
        </p:nvPicPr>
        <p:blipFill>
          <a:blip r:embed="rId3"/>
          <a:stretch/>
        </p:blipFill>
        <p:spPr>
          <a:xfrm>
            <a:off x="3733920" y="358128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84191.JPG"/>
          <p:cNvPicPr/>
          <p:nvPr/>
        </p:nvPicPr>
        <p:blipFill>
          <a:blip r:embed="rId4"/>
          <a:stretch/>
        </p:blipFill>
        <p:spPr>
          <a:xfrm>
            <a:off x="5757840" y="2089080"/>
            <a:ext cx="2852640" cy="18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HIM0026E.JPG"/>
          <p:cNvPicPr/>
          <p:nvPr/>
        </p:nvPicPr>
        <p:blipFill>
          <a:blip r:embed="rId5"/>
          <a:stretch/>
        </p:blipFill>
        <p:spPr>
          <a:xfrm>
            <a:off x="5010120" y="3708360"/>
            <a:ext cx="2838600" cy="1895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28480" y="1920960"/>
            <a:ext cx="42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an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exact rhyme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words rhyme perfect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66800" y="3603600"/>
            <a:ext cx="3576600" cy="124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heart—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flicker—thick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ordering—bord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584600" y="1919160"/>
            <a:ext cx="40258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an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1" action="ppaction://hlinksldjump"/>
              </a:rPr>
              <a:t>approximate rhyme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sounds are similar but not exactly the 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826160" y="3600360"/>
            <a:ext cx="3573360" cy="124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light—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whisper—w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bays—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2717640" y="2887560"/>
            <a:ext cx="152640" cy="10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3"/>
          <a:stretch/>
        </p:blipFill>
        <p:spPr>
          <a:xfrm>
            <a:off x="4392720" y="474192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4"/>
          <a:stretch/>
        </p:blipFill>
        <p:spPr>
          <a:xfrm>
            <a:off x="7986600" y="325908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hymes may b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exac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pproxim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5"/>
          <a:stretch/>
        </p:blipFill>
        <p:spPr>
          <a:xfrm>
            <a:off x="7122960" y="157644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91280" y="1695600"/>
            <a:ext cx="240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the exact and approximate end rhymes in these stanz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326232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3"/>
          <a:stretch/>
        </p:blipFill>
        <p:spPr>
          <a:xfrm>
            <a:off x="5943600" y="575460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528480" y="1258920"/>
            <a:ext cx="2286000" cy="67320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28480" y="12589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33520" y="1700280"/>
            <a:ext cx="5367240" cy="417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ll suddenly the wind comes sof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Spring is here agai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the hawthorn quickens with buds of green,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my heart with buds of pa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y heart all Winter lay so num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earth so dead and fr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at I never thought the Spring would 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r my heart wake any m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—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Song” by Rupert Brook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18">
            <a:hlinkClick r:id="rId4" action="ppaction://hlinksldjump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3800" y="552600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6"/>
          <p:cNvSpPr/>
          <p:nvPr/>
        </p:nvSpPr>
        <p:spPr>
          <a:xfrm>
            <a:off x="6191280" y="3357720"/>
            <a:ext cx="2419200" cy="988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exact rhymes: numb/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frore/m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57"/>
          <p:cNvSpPr/>
          <p:nvPr/>
        </p:nvSpPr>
        <p:spPr>
          <a:xfrm>
            <a:off x="6191280" y="4465800"/>
            <a:ext cx="2419200" cy="9885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pproximate rhy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gain/green/p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9" name="AutoShape 60"/>
          <p:cNvSpPr/>
          <p:nvPr/>
        </p:nvSpPr>
        <p:spPr>
          <a:xfrm>
            <a:off x="5780160" y="6022800"/>
            <a:ext cx="2520720" cy="835200"/>
          </a:xfrm>
          <a:custGeom>
            <a:avLst/>
            <a:gdLst>
              <a:gd name="textAreaLeft" fmla="*/ 54000 w 2520720"/>
              <a:gd name="textAreaRight" fmla="*/ 2466720 w 25207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65172" h="21600">
                <a:moveTo>
                  <a:pt x="0" y="0"/>
                </a:moveTo>
                <a:lnTo>
                  <a:pt x="65172" y="0"/>
                </a:lnTo>
                <a:lnTo>
                  <a:pt x="65172" y="21600"/>
                </a:lnTo>
                <a:lnTo>
                  <a:pt x="0" y="21600"/>
                </a:lnTo>
                <a:close/>
              </a:path>
              <a:path fill="lightenLess" w="65172" h="21600">
                <a:moveTo>
                  <a:pt x="0" y="0"/>
                </a:moveTo>
                <a:lnTo>
                  <a:pt x="65172" y="0"/>
                </a:lnTo>
                <a:lnTo>
                  <a:pt x="63772" y="1400"/>
                </a:lnTo>
                <a:lnTo>
                  <a:pt x="1400" y="1400"/>
                </a:lnTo>
                <a:close/>
              </a:path>
              <a:path fill="darken" w="65172" h="21600">
                <a:moveTo>
                  <a:pt x="65172" y="0"/>
                </a:moveTo>
                <a:lnTo>
                  <a:pt x="65172" y="21600"/>
                </a:lnTo>
                <a:lnTo>
                  <a:pt x="63772" y="20200"/>
                </a:lnTo>
                <a:lnTo>
                  <a:pt x="63772" y="1400"/>
                </a:lnTo>
                <a:close/>
              </a:path>
              <a:path fill="darkenLess" w="65172" h="21600">
                <a:moveTo>
                  <a:pt x="65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72" y="20200"/>
                </a:lnTo>
                <a:close/>
              </a:path>
              <a:path fill="lighten" w="65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65"/>
          <p:cNvSpPr/>
          <p:nvPr/>
        </p:nvSpPr>
        <p:spPr>
          <a:xfrm>
            <a:off x="6191280" y="1695600"/>
            <a:ext cx="240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the exact and approximate end rhymes in these stanz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66"/>
          <p:cNvSpPr/>
          <p:nvPr/>
        </p:nvSpPr>
        <p:spPr>
          <a:xfrm>
            <a:off x="528480" y="1258920"/>
            <a:ext cx="2286000" cy="67320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67"/>
          <p:cNvSpPr/>
          <p:nvPr/>
        </p:nvSpPr>
        <p:spPr>
          <a:xfrm>
            <a:off x="528480" y="12589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8"/>
          <p:cNvSpPr/>
          <p:nvPr/>
        </p:nvSpPr>
        <p:spPr>
          <a:xfrm>
            <a:off x="533520" y="1700280"/>
            <a:ext cx="5367240" cy="417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ll suddenly the wind comes sof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Spring is here agai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the hawthorn quickens with buds of green,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my heart with buds of pa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y heart all Winter lay so num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earth so dead and fr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at I never thought the Spring would 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r my heart wake any m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—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Song” by Rupert Brook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Group 71"/>
          <p:cNvGrpSpPr/>
          <p:nvPr/>
        </p:nvGrpSpPr>
        <p:grpSpPr>
          <a:xfrm>
            <a:off x="965160" y="2462040"/>
            <a:ext cx="3703680" cy="1059120"/>
            <a:chOff x="965160" y="2462040"/>
            <a:chExt cx="3703680" cy="1059120"/>
          </a:xfrm>
        </p:grpSpPr>
        <p:sp>
          <p:nvSpPr>
            <p:cNvPr id="105" name="Line 30"/>
            <p:cNvSpPr/>
            <p:nvPr/>
          </p:nvSpPr>
          <p:spPr>
            <a:xfrm>
              <a:off x="965160" y="3171960"/>
              <a:ext cx="731880" cy="0"/>
            </a:xfrm>
            <a:prstGeom prst="line">
              <a:avLst/>
            </a:prstGeom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>
              <a:off x="3076560" y="2462040"/>
              <a:ext cx="676440" cy="0"/>
            </a:xfrm>
            <a:prstGeom prst="line">
              <a:avLst/>
            </a:prstGeom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>
              <a:off x="4075200" y="3521160"/>
              <a:ext cx="593640" cy="0"/>
            </a:xfrm>
            <a:prstGeom prst="line">
              <a:avLst/>
            </a:prstGeom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Group 70"/>
          <p:cNvGrpSpPr/>
          <p:nvPr/>
        </p:nvGrpSpPr>
        <p:grpSpPr>
          <a:xfrm>
            <a:off x="3581280" y="4502160"/>
            <a:ext cx="687600" cy="1035000"/>
            <a:chOff x="3581280" y="4502160"/>
            <a:chExt cx="687600" cy="1035000"/>
          </a:xfrm>
        </p:grpSpPr>
        <p:sp>
          <p:nvSpPr>
            <p:cNvPr id="109" name="Line 34"/>
            <p:cNvSpPr/>
            <p:nvPr/>
          </p:nvSpPr>
          <p:spPr>
            <a:xfrm>
              <a:off x="3583080" y="5537160"/>
              <a:ext cx="6858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3581280" y="4502160"/>
              <a:ext cx="639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Group 69"/>
          <p:cNvGrpSpPr/>
          <p:nvPr/>
        </p:nvGrpSpPr>
        <p:grpSpPr>
          <a:xfrm>
            <a:off x="987480" y="4143240"/>
            <a:ext cx="3713040" cy="1040040"/>
            <a:chOff x="987480" y="4143240"/>
            <a:chExt cx="3713040" cy="1040040"/>
          </a:xfrm>
        </p:grpSpPr>
        <p:sp>
          <p:nvSpPr>
            <p:cNvPr id="112" name="Line 28"/>
            <p:cNvSpPr/>
            <p:nvPr/>
          </p:nvSpPr>
          <p:spPr>
            <a:xfrm>
              <a:off x="3978360" y="4143240"/>
              <a:ext cx="722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Line 43"/>
            <p:cNvSpPr/>
            <p:nvPr/>
          </p:nvSpPr>
          <p:spPr>
            <a:xfrm>
              <a:off x="987480" y="5183280"/>
              <a:ext cx="6588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528480" y="13701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hyme Schem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map of the rhyme pattern in a poem using letters to represent words that rhy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7" descr=""/>
          <p:cNvPicPr/>
          <p:nvPr/>
        </p:nvPicPr>
        <p:blipFill>
          <a:blip r:embed="rId1"/>
          <a:stretch/>
        </p:blipFill>
        <p:spPr>
          <a:xfrm>
            <a:off x="8153280" y="213372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8"/>
          <p:cNvSpPr/>
          <p:nvPr/>
        </p:nvSpPr>
        <p:spPr>
          <a:xfrm>
            <a:off x="609480" y="2895480"/>
            <a:ext cx="807732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CA" sz="2000" spc="-1" strike="noStrike" u="sng">
                <a:solidFill>
                  <a:srgbClr val="003300"/>
                </a:solidFill>
                <a:uFillTx/>
                <a:latin typeface="Verdana"/>
              </a:rPr>
              <a:t>Example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There once was a big brown </a:t>
            </a:r>
            <a:r>
              <a:rPr b="0" lang="en-CA" sz="2000" spc="-1" strike="noStrike">
                <a:solidFill>
                  <a:srgbClr val="ff0000"/>
                </a:solidFill>
                <a:latin typeface="Verdana"/>
              </a:rPr>
              <a:t>cat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        </a:t>
            </a:r>
            <a:r>
              <a:rPr b="0" lang="en-CA" sz="2000" spc="-1" strike="noStrike">
                <a:solidFill>
                  <a:srgbClr val="ff0000"/>
                </a:solidFill>
                <a:latin typeface="Verdana"/>
              </a:rPr>
              <a:t>a</a:t>
            </a:r>
            <a:br>
              <a:rPr sz="2000"/>
            </a:b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 That liked to eat a lot of </a:t>
            </a:r>
            <a:r>
              <a:rPr b="0" lang="en-CA" sz="2000" spc="-1" strike="noStrike">
                <a:solidFill>
                  <a:srgbClr val="00b0f0"/>
                </a:solidFill>
                <a:latin typeface="Verdana"/>
              </a:rPr>
              <a:t>mice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.           </a:t>
            </a:r>
            <a:r>
              <a:rPr b="0" lang="en-CA" sz="2000" spc="-1" strike="noStrike">
                <a:solidFill>
                  <a:srgbClr val="00b0f0"/>
                </a:solidFill>
                <a:latin typeface="Verdana"/>
              </a:rPr>
              <a:t>b</a:t>
            </a:r>
            <a:br>
              <a:rPr sz="2000"/>
            </a:b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 He got all round and </a:t>
            </a:r>
            <a:r>
              <a:rPr b="0" lang="en-CA" sz="2000" spc="-1" strike="noStrike">
                <a:solidFill>
                  <a:srgbClr val="ff0000"/>
                </a:solidFill>
                <a:latin typeface="Verdana"/>
              </a:rPr>
              <a:t>fat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                    </a:t>
            </a:r>
            <a:r>
              <a:rPr b="0" lang="en-CA" sz="2000" spc="-1" strike="noStrike">
                <a:solidFill>
                  <a:srgbClr val="ff0000"/>
                </a:solidFill>
                <a:latin typeface="Verdana"/>
              </a:rPr>
              <a:t>a</a:t>
            </a:r>
            <a:br>
              <a:rPr sz="2000"/>
            </a:b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 Because they tasted so </a:t>
            </a:r>
            <a:r>
              <a:rPr b="0" lang="en-CA" sz="2000" spc="-1" strike="noStrike">
                <a:solidFill>
                  <a:srgbClr val="00b0f0"/>
                </a:solidFill>
                <a:latin typeface="Verdana"/>
              </a:rPr>
              <a:t>nice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.            </a:t>
            </a:r>
            <a:r>
              <a:rPr b="0" lang="en-CA" sz="2000" spc="-1" strike="noStrike">
                <a:solidFill>
                  <a:srgbClr val="00b0f0"/>
                </a:solidFill>
                <a:latin typeface="Verdana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 Sc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118" name="Picture 38" descr=""/>
          <p:cNvPicPr/>
          <p:nvPr/>
        </p:nvPicPr>
        <p:blipFill>
          <a:blip r:embed="rId2"/>
          <a:stretch/>
        </p:blipFill>
        <p:spPr>
          <a:xfrm>
            <a:off x="7737480" y="25225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09480" y="4952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hyme scheme of these four lines is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b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8"/>
          <p:cNvSpPr/>
          <p:nvPr/>
        </p:nvSpPr>
        <p:spPr>
          <a:xfrm>
            <a:off x="838080" y="762120"/>
            <a:ext cx="4572000" cy="520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 </a:t>
            </a: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"Stopping by Woods on a Snowy Evening" by Robert Fr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Whose woods these are I think I know.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His house is in the village though;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He will not see me stopping here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o watch his woods fill up with snow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My little horse must think it queer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o stop without a farmhouse near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Between the woods and frozen lake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he darkest evening of the year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He gives his harness bells a shake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o ask if there is some mistake.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he only other sound's the sweep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Of easy wind and downy flak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he woods are lovely, dark and deep,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But I have promises to keep,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And miles to go before I sleep.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And miles to go before I sleep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 Sc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029200" y="1295280"/>
            <a:ext cx="304920" cy="10674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029200" y="2514600"/>
            <a:ext cx="304920" cy="10674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5029200" y="3657600"/>
            <a:ext cx="304920" cy="10674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029200" y="4952880"/>
            <a:ext cx="304920" cy="10674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638680" y="1447920"/>
            <a:ext cx="3124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hyme scheme of this poem i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ba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bbc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cd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dd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0"/>
          <p:cNvSpPr/>
          <p:nvPr/>
        </p:nvSpPr>
        <p:spPr>
          <a:xfrm>
            <a:off x="528480" y="2278080"/>
            <a:ext cx="83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consonant sound is repeat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6" descr=""/>
          <p:cNvPicPr/>
          <p:nvPr/>
        </p:nvPicPr>
        <p:blipFill>
          <a:blip r:embed="rId1"/>
          <a:stretch/>
        </p:blipFill>
        <p:spPr>
          <a:xfrm>
            <a:off x="7848720" y="21337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8"/>
          <p:cNvSpPr/>
          <p:nvPr/>
        </p:nvSpPr>
        <p:spPr>
          <a:xfrm>
            <a:off x="45720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llitera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he repetition of the consonant sounds at the beginning of a series of wor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528480" y="5649840"/>
            <a:ext cx="3000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More about allit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528480" y="3278160"/>
            <a:ext cx="8077320" cy="18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long, long yellow on the law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hubbub as of feet;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t audible, as ours to us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ut dapperer, more swe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 long, long yellow on the lawn” by Emily Dickins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Alliteration and Onomatopoeia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844560" y="3656160"/>
            <a:ext cx="13644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4"/>
          <p:cNvSpPr/>
          <p:nvPr/>
        </p:nvSpPr>
        <p:spPr>
          <a:xfrm>
            <a:off x="1574640" y="3656160"/>
            <a:ext cx="13680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35"/>
          <p:cNvSpPr/>
          <p:nvPr/>
        </p:nvSpPr>
        <p:spPr>
          <a:xfrm>
            <a:off x="3994200" y="3656160"/>
            <a:ext cx="13644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9" descr=""/>
          <p:cNvPicPr/>
          <p:nvPr/>
        </p:nvPicPr>
        <p:blipFill>
          <a:blip r:embed="rId3"/>
          <a:stretch/>
        </p:blipFill>
        <p:spPr>
          <a:xfrm>
            <a:off x="2271600" y="289404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36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SJW</dc:creator>
  <dc:description/>
  <dc:language>en-US</dc:language>
  <cp:lastModifiedBy>Dan Olsen</cp:lastModifiedBy>
  <cp:lastPrinted>2004-11-19T20:17:12Z</cp:lastPrinted>
  <dcterms:modified xsi:type="dcterms:W3CDTF">2011-01-11T21:51:39Z</dcterms:modified>
  <cp:revision>413</cp:revision>
  <dc:subject/>
  <dc:title>Elements of Literature: Sounds of Poetry</dc:title>
</cp:coreProperties>
</file>